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762-46DD-4A67-B4FB-3C8FC8A0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1AB-75D8-43A5-A5A2-3F05E0E2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F0F9-7FBB-41E3-9B38-C7FDF92C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1439-A09A-49F4-BCFA-7E40631F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8FC6-1F7F-4516-A857-1070C7CA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571-C225-47E6-B691-E71483AF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7F95-437E-4319-B597-BCAA6998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CDBF-D2D8-4450-970B-526C95B1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9FC-0C5A-4D3C-8B9C-9E66CA05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166-54CB-47D6-9B77-941E7C37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849B-873F-493F-BD33-DEA40B7E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409E-9DF1-4082-953D-09B12BFF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1762-9720-46B4-82B7-2324FE4DD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ater.usgs.gov/pubs/circ/circ1156/circ1156.4D.fig1.gi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sl.gov.uk/prodserv/ana/foodres/environ/risk/food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ospitalmanagement.net/contractor_images/sempermed/1.jpg&amp;imgrefurl=http://www.hospitalmanagement.net/contractors/disposables/sempermed/sempermed1.html&amp;usg=__-v6jYMNx4msVsHOpJ9SMlbsQBCE=&amp;h=386&amp;w=580&amp;sz=44&amp;hl=en&amp;start=14&amp;um=1&amp;tbnid=GYzoyBPG2B47nM:&amp;tbnh=89&amp;tbnw=134&amp;prev=/images%3Fq%3Dsurgical%2Bgloves%26um%3D1%26hl%3Den%26safe%3Dactive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assembly.state.ny.us/comm/Toxic/20010531/4551p5.jpg&amp;imgrefurl=http://assembly.state.ny.us/comm/Toxic/20010531/&amp;usg=__yYAYtgeQy41W3-TeQaMscJMeZb4=&amp;h=274&amp;w=200&amp;sz=11&amp;hl=en&amp;start=9&amp;um=1&amp;tbnid=heo_j8rbmhfrqM:&amp;tbnh=113&amp;tbnw=82&amp;prev=/images%3Fq%3Div%2Bbags%26um%3D1%26hl%3Den%26safe%3Dactive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com/imgres?imgurl=http://www.avery.com/us/downloads/clipart/baby_pacifier.gif&amp;imgrefurl=http://17yearoldparent.blogspot.com/&amp;usg=__tw7oQ7fCtFlY96gTm_doj-J6XjQ=&amp;h=541&amp;w=382&amp;sz=8&amp;hl=en&amp;start=1&amp;um=1&amp;tbnid=H2e696m99kz7YM:&amp;tbnh=132&amp;tbnw=93&amp;prev=/images%3Fq%3Dpacifiers%26um%3D1%26hl%3Den%26safe%3Dactive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com/imgres?imgurl=http://www.ida.liu.se/~TDDB84/pictures/rubberDuck.jpg&amp;imgrefurl=http://www.xanga.com/mik_314/597264707/item/&amp;usg=__W__jNHwPKiobIR021_s0Fy8KB8c=&amp;h=1024&amp;w=1024&amp;sz=305&amp;hl=en&amp;start=34&amp;um=1&amp;tbnid=mBJQ46Ekp4_PWM:&amp;tbnh=150&amp;tbnw=150&amp;prev=/images%3Fq%3Drubber%2Bduckie%26start%3D20%26ndsp%3D20%26um%3D1%26hl%3Den%26safe%3Dactive%26sa%3DN" TargetMode="External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maoxian.com/images/toothpaste.gif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aqd.nps.gov/ard/pubs/Core_Slides/slide037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map.no/maps-gra/jpeg/s07097-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map.no/maps-gra/jpeg/s07097-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map.no/maps-gra/jpeg/s07100-2.jp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Health and Toxi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3657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ants are often measured in ppm or ppb or 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rcury Health Effec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on dose, duration and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rganic compoun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industry, pesticides, food additives, medicin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514600"/>
            <a:ext cx="5867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oxi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ly indestruct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Dioxin Pyramid of Sickness"/>
          <p:cNvPicPr/>
          <p:nvPr/>
        </p:nvPicPr>
        <p:blipFill>
          <a:blip r:embed="rId1"/>
          <a:stretch/>
        </p:blipFill>
        <p:spPr>
          <a:xfrm>
            <a:off x="228600" y="3733920"/>
            <a:ext cx="4419720" cy="3124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Dioxin Pyramid of Health"/>
          <p:cNvPicPr/>
          <p:nvPr/>
        </p:nvPicPr>
        <p:blipFill>
          <a:blip r:embed="rId2"/>
          <a:stretch/>
        </p:blipFill>
        <p:spPr>
          <a:xfrm>
            <a:off x="4876920" y="3809880"/>
            <a:ext cx="4267080" cy="3048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066680" y="1676520"/>
            <a:ext cx="1524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41840" y="1523880"/>
            <a:ext cx="450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toxic manmade chemic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JPG"/>
          <p:cNvPicPr/>
          <p:nvPr/>
        </p:nvPicPr>
        <p:blipFill>
          <a:blip r:embed="rId1"/>
          <a:stretch/>
        </p:blipFill>
        <p:spPr>
          <a:xfrm>
            <a:off x="3857760" y="1676520"/>
            <a:ext cx="4066920" cy="4341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66680" y="1981080"/>
            <a:ext cx="236232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  skin damage, birth defects, affects entir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6248520"/>
            <a:ext cx="6629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exposed to dioxin that leaked from a chemical 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isphenol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 disruptor (see DV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gent Oran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by the U.S. Govn’t to clear foliage in Vietnam during the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426744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t Orange “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e effects of agent oran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CB’s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Polychlorinated Bipheny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, fish oils, milk, eggs, fats and oils, infant formula, human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752480"/>
            <a:ext cx="3124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and va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serious environmental health hazards U.S. children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mulates in body over life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d in soft tissue, bones and 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tored, is released very slowly throughout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tha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ciz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4511520"/>
            <a:ext cx="3533760" cy="2346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2819520"/>
            <a:ext cx="1993680" cy="2747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4343400"/>
            <a:ext cx="1611360" cy="228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34320" y="2819520"/>
            <a:ext cx="1809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FO and PF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tic chemic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lots of th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See full size image"/>
          <p:cNvPicPr/>
          <p:nvPr/>
        </p:nvPicPr>
        <p:blipFill>
          <a:blip r:embed="rId1"/>
          <a:stretch/>
        </p:blipFill>
        <p:spPr>
          <a:xfrm>
            <a:off x="6172200" y="2590920"/>
            <a:ext cx="2362320" cy="1888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248520" y="4876920"/>
            <a:ext cx="189540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autionary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chemical is likely to cause harm, it must be proven innoc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en the health of humans and the environment is at stake, it may not be necessary to wait for scientific certainty to take protective action.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se and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mall amounts something may be harmless, or even necessary, in larger amounts it’s a different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differ in how they respond to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se Response Curv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ful to be able to predict how a % of the population will respond to a given do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D –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ose at which 50% of the subjects experi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D –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ose at which 50% of the subjects experience so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gativ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toxi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D  -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ose at which 50% of the people or organism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e (leth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0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9480" y="55627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5305320"/>
            <a:ext cx="4953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D –  50 (effective d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D –  50 (toxic d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D –  50  (lethal d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reshold Dose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resho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level below this has no effect and level above this shows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with a threshold: below a certain amount is totally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shold: there is no safe amount, even very small doses have an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last 100 years it was added to paint, gas, water pipes, health care supplies…  (330 million tons min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source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ical Grad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orgs vary in their tolerance or sensitivity to env. tox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-response curves for different species v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 a pollution source, often see more tolerant plants growing instead of what would normally be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ility to withstand stress due to a pollutant or other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opulations can develop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 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is there really such a thing as too much of a good 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286000"/>
            <a:ext cx="6553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o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e deer teeth. The teeth on the left are from a deer that was grazing on vegetation laden with fluoride emitted from a local aluminum plant. The mule deer teeth on the right came from a healthy de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Mule deer teeth normal and with flouride da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4114800"/>
            <a:ext cx="39038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n hum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to 20 mg consumed daily is enough to cause bone problems within 10 to 2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% of the pop. is at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a future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stimate that about 50% of bone disease may be flouride 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eavy metal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– Can biomagnif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lobal emissions of metals to the atmosphere, 19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0"/>
            <a:ext cx="8610480" cy="3505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57913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ange of heavy metals emitted into atmospher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d = anthropogenic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The relative importance of anthropogenic sources of metals world-wid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533520"/>
            <a:ext cx="8153640" cy="4502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09680" y="518148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thropogenic sources of heavy metals world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9051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al, oil, w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23623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urning wa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152388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y-product of mining zinc, nickle, l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Time trends for estimated deposition of lead and cadmium as determined in Greenland ice core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609480"/>
            <a:ext cx="7086600" cy="4043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495288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ead and cadmium found in ice core samples in Gree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dm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metal industry, strengthe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on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eff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pational hazard for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me foods:  kidneys, liver, mussels, oy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eff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Routes of Mercury Into the Body"/>
          <p:cNvPicPr/>
          <p:nvPr/>
        </p:nvPicPr>
        <p:blipFill>
          <a:blip r:embed="rId1"/>
          <a:stretch/>
        </p:blipFill>
        <p:spPr>
          <a:xfrm>
            <a:off x="533520" y="1143000"/>
            <a:ext cx="8381880" cy="5181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71600" y="12193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1 way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229600" cy="5860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19920" y="4724280"/>
            <a:ext cx="16761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7010280" y="4114800"/>
            <a:ext cx="763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743200"/>
            <a:ext cx="1143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9200" y="2819520"/>
            <a:ext cx="83808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1219320"/>
            <a:ext cx="2514600" cy="36828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thyl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02:00:51Z</dcterms:created>
  <dc:creator>tosborne</dc:creator>
  <dc:description/>
  <dc:language>en-US</dc:language>
  <cp:lastModifiedBy>tosborne</cp:lastModifiedBy>
  <dcterms:modified xsi:type="dcterms:W3CDTF">2012-02-01T21:23:47Z</dcterms:modified>
  <cp:revision>39</cp:revision>
  <dc:subject/>
  <dc:title>Environmental Health and Toxicology</dc:title>
</cp:coreProperties>
</file>